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C805-1834-4B83-B886-4526C2165E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7780-B097-44A1-8226-E83D1342A92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10E1-C1E3-4215-A0C4-6EE2610A394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66F6-A969-4841-8C09-B4BC3799909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7F19-6664-4AE2-8DDC-CD2D30362BB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C0D2-4DD5-4B5F-9FE7-798149C89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BD22-B198-44A4-97A0-E73817F0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1884-30FD-4402-B219-3CFCF6230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CC81-CEC5-42C3-A592-993D46BCA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6005-8F36-4582-9B1E-954B1D47D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C535-F535-42C6-92C2-FE19E7EB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DCB8-EA21-4778-8FEB-CB3322F0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7552-41C4-4884-8A5D-293F9BBB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89DC-160F-4D91-ADD0-D9118009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7925-866E-4546-B2D5-5A9F3149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092F-33F1-4A34-BAF9-39519B8A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2C89-E18A-43E5-8CBE-6F06BC42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37A9-62E6-4897-8F7F-A1AB26A1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7C8D6-BCCD-4C78-B565-A616A14C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5CA67-CB69-4C19-A625-BEECD29C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4520-4C97-4F63-9D88-CD037740E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68FA-9A37-4AEC-9B26-5FD274734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DB78-38A4-4707-9F05-1DA10792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EB92-446F-4A8C-B507-036726F4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45D2-7DB6-4A4F-A168-8F1A89F5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3309-2E41-4B5C-869D-B2483EE6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9907-7EB3-4E8B-AD46-04AF41B9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41F2-0F57-4A84-941C-64BB1DBD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7983-9C8E-47B4-8B05-18499B39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3649-A5E7-4618-B043-15B27B899CE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8BFF-BCC1-428C-88EF-7BD645009146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ru.wikipedia.org/wiki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kraftwerk-tourdefrance"/>
          <p:cNvPicPr/>
          <p:nvPr/>
        </p:nvPicPr>
        <p:blipFill>
          <a:blip r:embed="rId1"/>
          <a:stretch/>
        </p:blipFill>
        <p:spPr>
          <a:xfrm>
            <a:off x="108000" y="115920"/>
            <a:ext cx="4248000" cy="4248000"/>
          </a:xfrm>
          <a:prstGeom prst="rect">
            <a:avLst/>
          </a:prstGeom>
          <a:ln w="0">
            <a:noFill/>
          </a:ln>
        </p:spPr>
      </p:pic>
      <p:pic>
        <p:nvPicPr>
          <p:cNvPr id="90" name="Заголовок 1" descr=""/>
          <p:cNvPicPr/>
          <p:nvPr/>
        </p:nvPicPr>
        <p:blipFill>
          <a:blip r:embed="rId2"/>
          <a:stretch/>
        </p:blipFill>
        <p:spPr>
          <a:xfrm>
            <a:off x="615960" y="1987560"/>
            <a:ext cx="8242200" cy="20541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роект для учащихся 10-11 классов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огатить знания учащихся по страноведению  Франци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ширить кругозор учащихс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вить любовь к спорт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5" descr="85067"/>
          <p:cNvPicPr/>
          <p:nvPr/>
        </p:nvPicPr>
        <p:blipFill>
          <a:blip r:embed="rId2"/>
          <a:stretch/>
        </p:blipFill>
        <p:spPr>
          <a:xfrm>
            <a:off x="4572000" y="3933720"/>
            <a:ext cx="4068720" cy="27669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274680" y="96840"/>
            <a:ext cx="8686800" cy="1446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 началась история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Tour de France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овы основные принципы велогонк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торию призовых маек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ультурные традици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 некоторые интересные факт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иректорах гонок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егендарных участниках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бедителях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усских гонщика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3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На создание проекта ученикам даётся 6-8 часов. Из них 1 или 2 часа на поиск информации, 2-3 часа на создание и 1-2 часа на защиту проекта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кла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следовательской работ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зентац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оторепортаж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енгазет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ведения викторины среди одноклассников по данной тем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tdf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357336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Bonne</a:t>
            </a:r>
            <a:r>
              <a:rPr b="0" lang="en-US" sz="8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chance!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2d700"/>
                </a:solidFill>
                <a:uFillTx/>
                <a:latin typeface="Times New Roman"/>
                <a:hlinkClick r:id="rId2"/>
              </a:rPr>
              <a:t>http://ru.wikipedia.org/wiki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http://www.eventguide.ru/event/1070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http://blog.ebike.ru/wps/2008/02/20/istoriya-tur-de-frans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удентка 428 группы факультета иностранных языков КГПИ Холопова Ольг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ия</cp:lastModifiedBy>
  <dcterms:modified xsi:type="dcterms:W3CDTF">2009-10-25T15:24:02Z</dcterms:modified>
  <cp:revision>14</cp:revision>
  <dc:subject/>
  <dc:title>Le tour de france</dc:title>
</cp:coreProperties>
</file>